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98EE-113C-47CC-BE8F-D384E94D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79280" y="430272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9746-B1A3-466D-9AF1-251B49D4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814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79280" y="430272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81480" y="430272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7B93-1FFD-464E-B210-9FFC707DF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91760" y="3068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04600" y="3068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79280" y="430272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091760" y="430272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04600" y="430272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71AB-7287-4339-A1CE-C6CE6A462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A6CF-A9C4-49DB-A555-D63752B0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979280" y="306864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20A8-CE94-406B-802A-0FCA100D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88BF-5C51-4F1B-8EDC-26BA3187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81480" y="306864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BA40-7E96-418A-8C57-A700C741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8E36-1935-447B-8C75-FCD7A503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76360" y="47592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0DCA-A2B7-4964-AC0A-CE101171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81480" y="306864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979280" y="430272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C2C2-4655-4AB2-96CA-CE47356E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79280" y="306864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8102-2575-49EE-85EF-A3925120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814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81480" y="430272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AB15-A14E-4FE5-8198-0485571F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814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979280" y="430272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FEED-7137-46F7-BF77-A2CD0791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979280" y="430272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9E1B-13CB-48FF-B647-18DB7659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814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979280" y="430272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181480" y="430272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D707-72E5-4F24-86AD-6D8015668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091760" y="3068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04600" y="3068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979280" y="430272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091760" y="430272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04600" y="430272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49A6-6D79-4C0B-BB82-448D80D76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B649-79B7-4C3D-8071-30081FB9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81480" y="306864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2F71-EF57-4EE8-8FCC-DF2EBBD7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475C-1CB6-4954-A2D9-ACFD4654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360" y="47592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AE2F-3631-4152-84C4-E2A3164C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81480" y="306864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79280" y="430272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2BFF-5D72-4B19-ADCA-151AFAD2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814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81480" y="430272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6265-2F2A-46FE-8489-AA5F4D44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814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79280" y="430272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06BA-31E3-4F50-BF4F-7AEE4B03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ED34-A2AA-4EB9-B40B-5D5B26B4CD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9BCB-90F0-44A0-848A-19D0C36444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3816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79280" y="306864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01:32:36Z</dcterms:created>
  <dc:creator>Satoru Ueda</dc:creator>
  <dc:description/>
  <dc:language>en-US</dc:language>
  <cp:lastModifiedBy>Satoru Ueda</cp:lastModifiedBy>
  <dcterms:modified xsi:type="dcterms:W3CDTF">2008-02-14T01:33:04Z</dcterms:modified>
  <cp:revision>1</cp:revision>
  <dc:subject/>
  <dc:title>スライド 1</dc:title>
</cp:coreProperties>
</file>